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ED0-B4D8-4CB3-AD36-71E356B3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F4F-94EA-4C8E-9D0C-5DD1F89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DCB-971E-472C-85ED-D2222712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B38-A282-40AF-875F-62E69922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082-C657-4C8B-9F57-70A5DE2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0C6-9268-4A46-8D4F-DE0D0DA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C01-E575-4B53-9677-EFB92A9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8F8-DBB0-4311-8E66-9AA7328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3AA-AC5E-497D-A428-02619C9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171-F856-4F51-B10B-245FF86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FE8-3B26-4CD0-87B0-FDD03E1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F92-A857-44E7-80B1-85F8827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28B-C74E-4EBE-8651-C07897E83DE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-228600"/>
            <a:ext cx="79725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lling Sound Patter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3657600"/>
            <a:ext cx="3152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ook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ncy Blankensh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sh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16360" y="1523880"/>
            <a:ext cx="3943440" cy="504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0720" y="266688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Sh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means that something has already been shake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97160" y="914400"/>
            <a:ext cx="5046840" cy="466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971800"/>
            <a:ext cx="312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b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something you can read.  There are many good books to re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43400" y="1117440"/>
            <a:ext cx="4389480" cy="462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438280"/>
            <a:ext cx="3124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a person who prepares food for others. 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can work in a restaura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18360" y="533520"/>
            <a:ext cx="1957320" cy="57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514600"/>
            <a:ext cx="358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h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a curved, sharp piece of metal that can be put on the end of a fishing line.  It can catch a fish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727520" cy="469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14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You ca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l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with your ey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286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70520" y="609480"/>
            <a:ext cx="346068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31240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n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small area somewhere, like in a hous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286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5790960" cy="334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609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T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means something has already been take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br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56696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76212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b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small stream of water—smaller than a river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cr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592880" cy="4376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243828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thief or robber.  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not an honest and truthful perso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3:21:38Z</dcterms:created>
  <dc:creator>Nancy Blankenship</dc:creator>
  <dc:description/>
  <dc:language>en-US</dc:language>
  <cp:lastModifiedBy>GCS User</cp:lastModifiedBy>
  <dcterms:modified xsi:type="dcterms:W3CDTF">2003-12-15T02:22:27Z</dcterms:modified>
  <cp:revision>8</cp:revision>
  <dc:subject/>
  <dc:title>PowerPoint Presentation</dc:title>
</cp:coreProperties>
</file>